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71520"/>
            <a:ext cx="1667160" cy="317880"/>
            <a:chOff x="0" y="371520"/>
            <a:chExt cx="1667160" cy="317880"/>
          </a:xfrm>
        </p:grpSpPr>
        <p:sp>
          <p:nvSpPr>
            <p:cNvPr id="1" name=""/>
            <p:cNvSpPr/>
            <p:nvPr/>
          </p:nvSpPr>
          <p:spPr>
            <a:xfrm>
              <a:off x="0" y="37152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0" y="0"/>
                  </a:moveTo>
                  <a:lnTo>
                    <a:pt x="1875" y="0"/>
                  </a:lnTo>
                  <a:lnTo>
                    <a:pt x="1654" y="883"/>
                  </a:lnTo>
                  <a:lnTo>
                    <a:pt x="0" y="8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4400" y="371520"/>
              <a:ext cx="397080" cy="317880"/>
            </a:xfrm>
            <a:custGeom>
              <a:avLst/>
              <a:gdLst/>
              <a:ahLst/>
              <a:rect l="0" t="0" r="r" b="b"/>
              <a:pathLst>
                <a:path w="1103" h="883">
                  <a:moveTo>
                    <a:pt x="220" y="0"/>
                  </a:moveTo>
                  <a:lnTo>
                    <a:pt x="0" y="883"/>
                  </a:lnTo>
                  <a:lnTo>
                    <a:pt x="882" y="883"/>
                  </a:lnTo>
                  <a:lnTo>
                    <a:pt x="110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06560" y="371520"/>
              <a:ext cx="317880" cy="317880"/>
            </a:xfrm>
            <a:custGeom>
              <a:avLst/>
              <a:gdLst/>
              <a:ahLst/>
              <a:rect l="0" t="0" r="r" b="b"/>
              <a:pathLst>
                <a:path w="883" h="883">
                  <a:moveTo>
                    <a:pt x="220" y="0"/>
                  </a:moveTo>
                  <a:lnTo>
                    <a:pt x="0" y="883"/>
                  </a:lnTo>
                  <a:lnTo>
                    <a:pt x="663" y="883"/>
                  </a:lnTo>
                  <a:lnTo>
                    <a:pt x="88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84120" y="371520"/>
              <a:ext cx="238320" cy="317880"/>
            </a:xfrm>
            <a:custGeom>
              <a:avLst/>
              <a:gdLst/>
              <a:ahLst/>
              <a:rect l="0" t="0" r="r" b="b"/>
              <a:pathLst>
                <a:path w="662" h="883">
                  <a:moveTo>
                    <a:pt x="220" y="0"/>
                  </a:moveTo>
                  <a:lnTo>
                    <a:pt x="0" y="883"/>
                  </a:lnTo>
                  <a:lnTo>
                    <a:pt x="441" y="883"/>
                  </a:lnTo>
                  <a:lnTo>
                    <a:pt x="662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68440" y="371520"/>
              <a:ext cx="159120" cy="317880"/>
            </a:xfrm>
            <a:custGeom>
              <a:avLst/>
              <a:gdLst/>
              <a:ahLst/>
              <a:rect l="0" t="0" r="r" b="b"/>
              <a:pathLst>
                <a:path w="442" h="883">
                  <a:moveTo>
                    <a:pt x="221" y="0"/>
                  </a:moveTo>
                  <a:lnTo>
                    <a:pt x="221" y="0"/>
                  </a:lnTo>
                  <a:lnTo>
                    <a:pt x="0" y="883"/>
                  </a:lnTo>
                  <a:lnTo>
                    <a:pt x="221" y="883"/>
                  </a:lnTo>
                  <a:lnTo>
                    <a:pt x="442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62040" y="371520"/>
              <a:ext cx="105120" cy="317880"/>
            </a:xfrm>
            <a:custGeom>
              <a:avLst/>
              <a:gdLst/>
              <a:ahLst/>
              <a:rect l="0" t="0" r="r" b="b"/>
              <a:pathLst>
                <a:path w="292" h="883">
                  <a:moveTo>
                    <a:pt x="222" y="0"/>
                  </a:moveTo>
                  <a:lnTo>
                    <a:pt x="0" y="883"/>
                  </a:lnTo>
                  <a:lnTo>
                    <a:pt x="69" y="883"/>
                  </a:lnTo>
                  <a:lnTo>
                    <a:pt x="29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1693800" y="6181560"/>
            <a:ext cx="7437960" cy="315000"/>
            <a:chOff x="1693800" y="6181560"/>
            <a:chExt cx="7437960" cy="315000"/>
          </a:xfrm>
        </p:grpSpPr>
        <p:sp>
          <p:nvSpPr>
            <p:cNvPr id="8" name=""/>
            <p:cNvSpPr/>
            <p:nvPr/>
          </p:nvSpPr>
          <p:spPr>
            <a:xfrm>
              <a:off x="1693800" y="6419880"/>
              <a:ext cx="7437960" cy="76680"/>
            </a:xfrm>
            <a:custGeom>
              <a:avLst/>
              <a:gdLst/>
              <a:ahLst/>
              <a:rect l="0" t="0" r="r" b="b"/>
              <a:pathLst>
                <a:path w="20661" h="213">
                  <a:moveTo>
                    <a:pt x="0" y="213"/>
                  </a:moveTo>
                  <a:lnTo>
                    <a:pt x="20661" y="213"/>
                  </a:lnTo>
                  <a:lnTo>
                    <a:pt x="20661" y="0"/>
                  </a:lnTo>
                  <a:lnTo>
                    <a:pt x="52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22600" y="6300720"/>
              <a:ext cx="7409160" cy="76680"/>
            </a:xfrm>
            <a:custGeom>
              <a:avLst/>
              <a:gdLst/>
              <a:ahLst/>
              <a:rect l="0" t="0" r="r" b="b"/>
              <a:pathLst>
                <a:path w="20581" h="213">
                  <a:moveTo>
                    <a:pt x="0" y="213"/>
                  </a:moveTo>
                  <a:lnTo>
                    <a:pt x="20581" y="213"/>
                  </a:lnTo>
                  <a:lnTo>
                    <a:pt x="20581" y="0"/>
                  </a:lnTo>
                  <a:lnTo>
                    <a:pt x="52" y="0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51040" y="6181560"/>
              <a:ext cx="7380720" cy="81360"/>
            </a:xfrm>
            <a:custGeom>
              <a:avLst/>
              <a:gdLst/>
              <a:ahLst/>
              <a:rect l="0" t="0" r="r" b="b"/>
              <a:pathLst>
                <a:path w="20502" h="226">
                  <a:moveTo>
                    <a:pt x="0" y="226"/>
                  </a:moveTo>
                  <a:lnTo>
                    <a:pt x="20502" y="213"/>
                  </a:lnTo>
                  <a:lnTo>
                    <a:pt x="20502" y="26"/>
                  </a:lnTo>
                  <a:lnTo>
                    <a:pt x="52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52480" y="2448000"/>
            <a:ext cx="69343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turns Program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Historical Persp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gram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Return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at’s Required to 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Arial"/>
                <a:ea typeface="Arial"/>
              </a:rPr>
              <a:t>Returns Program for Direct Account  Resell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Returns Program 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2143080"/>
            <a:ext cx="7010280" cy="30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 organized Return Authorization process preparing  returned product to Microsoft for efficient processing and account crediting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ccess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p front pre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bility to reconcile variences A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pliance to T&amp;C’s of con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5248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Historical Persp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6520" y="1838160"/>
            <a:ext cx="7010280" cy="27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Y 93 returns totaled $103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dition of returns was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45 day average processing time for returns in FY 92-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reasing non-comp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70% included discrepencies of $1000.00 or 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c8fec8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5%  were discrepancy f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Program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1685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80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te distributors and resellers on the need to improve the condition of their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80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uct conference calls followed by visits to customer sites for training purposes.  Ensuring complete understanding of the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80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s associated with reconciling errors, discrepa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80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returns with more feedback and communication as to how program is 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524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Program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2480" y="1685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duce processing time from 45 days to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duce costs associated with reconcilling errors/discrepa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ove condition of returned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lidify relationship between ASAP Distribution and Microsoft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-the-spot reconciliation of va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524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Benefits to AS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52480" y="1685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duction in return discrep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aster credit fo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vings of Distribution, Finance and Purchasing costs due to fewer va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oved relationship with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tter inventor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524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The Returns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78200" y="1652760"/>
            <a:ext cx="5421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ctr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view (hardcopy) Reseller Returns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0040" y="2521080"/>
            <a:ext cx="58039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52480" y="271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c8fec8"/>
                </a:solidFill>
                <a:latin typeface="Book Antiqua"/>
                <a:ea typeface="Book Antiqua"/>
              </a:rPr>
              <a:t>What’s Required to Beg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480" y="2448000"/>
            <a:ext cx="7162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9234db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S Returns visit ASAP to review process with Distribution Center, Finance and Purchasing 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